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450D-8723-4D1C-9796-E59489F74B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E886-5D02-43ED-9EB9-9110B66FC6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BC72-62B2-41CF-9304-C82003D037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D48C-C14C-4E60-8E73-C6BC4FD0103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1989-8A63-4E42-BFBC-2C8BAB84E8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FE9D-3B72-411E-BC3C-4ACBACDED6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C685-614C-48B5-9D7F-AEE9460120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6EEE-25B5-4004-9138-69D5265475C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ADE5-D4D4-4F3D-BD1A-BAC8414F472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936800" y="608040"/>
            <a:ext cx="3227400" cy="2421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7520" y="3268800"/>
            <a:ext cx="5203800" cy="61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F50F-8592-470F-A4B8-BAA85AB670A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7FE4-820E-472A-B289-4DF418189C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72F7-7804-4E9A-B4AF-5DF63ADF529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D7C1-EC0C-4954-8578-7649C8071C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DBDF-964A-47D3-9C89-BC7D623E5A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8A67-7588-447C-8A07-CF51A69031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6E81-580E-48F4-B8D0-947D53067A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77AC-1947-4ACE-AA0F-B0CF81151A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DE99-0EF3-432C-87F8-7BD0BCACC2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3407-982B-4248-A265-3D76F173C86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1FF7-0F34-4367-A4B8-4C704D6093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A015-F202-462B-9578-6CFA5FC5CF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135F-B527-4D53-A24E-BA0B0585C2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CA4C-BBD1-4457-962B-39F4BBA80E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7AE4-0279-4800-BBC4-AB575E5FFC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64EB-6AFC-4247-A004-D82DBEF046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08AE-1DB8-45B7-9173-883B376B2E2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26A4-9F44-4693-890B-7904B5A5D2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B4D2-017F-4F2D-BC0E-8C05B9E887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166F-110F-43A7-8717-FCBB3DC84D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3688-2E6D-4FCF-9F9F-B952D5091E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7D45-281C-4A18-BFEA-DFBFD59CA9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9E4C-37E4-4D35-8D1A-AADBF4127B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29A8-BA66-4F19-81C8-96F6C12BAB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023D-940F-48C5-A187-6EC2590C795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7A24-AC1F-4BCE-B38B-7284189C0D3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674C-344D-4B9A-9A8F-6370E593D0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E6E8-FA44-4BC5-9364-2CA8F1A192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7CCE-E00A-451A-9581-3CF6A4F0FB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9AD7-209C-44DE-AA7C-70C3C81B5E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BD4C-D9DB-4A0D-879D-80743C16C6E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376D-3842-4697-96C0-64252D9442E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32B6-3E07-4437-90CB-878ED398569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038A-7B60-4B61-A61F-A6D0BBEBBB2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97C5-3A5A-401F-AD10-C66CE99D2B4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DDEE-8F10-4563-B385-DE73118EFFC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5447-26AA-49E8-89F1-43202C891E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C489-71EC-4EB5-BD39-BC3F656E7B3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5464-1931-4226-889D-FBEB58C5DBA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1EB3-E313-4161-8735-CFFE9706D30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2189-57D0-48B2-83F0-1F23AB7AED8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CC76-E3DF-416B-8ABD-971E4D85309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489-B001-4FAD-AE6B-5249789DA9C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370A-22E3-4839-B83A-7911E036769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78EB-77EC-4C85-8A4A-4DAAB5A4F8B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4F37-CA6A-43D3-8ED0-1AEC136D402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3C0F-97FE-4660-A94E-05A29184ED4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3FA1-4D4F-4D63-8DE8-97E08C94C2A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497-27C2-47D0-841A-A4EE757FB6F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D22-8690-43B2-9516-C11F3361C6B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48A3-69C4-4B3F-A3F9-639C7FD15C8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AB40-0921-406F-B70B-C09EB8C19BE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F084-D35D-46CD-9001-B79354CB37B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501C-DEE9-4C3C-B954-3BD2A5741A8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4359-3BF1-4B04-A6F8-37B1CDD5D88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BD5-B6DB-450D-9D06-8EABE9BD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267-825D-4409-9554-ECE29519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33B-3319-4C07-89D6-15F34E5D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ADC-C97E-4D7A-B42C-FDF765B0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6F96-4347-436A-B92A-98DE9D4A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705-7E4A-4312-8220-D716C084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1795-18EE-48EA-BEE0-C85C5C2B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F1FC-E820-4406-8191-3D677111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2482-F6D7-453B-9394-328FEF44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64C3-1577-4703-A6C3-A5FE520A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03F-8C25-40D0-A8B4-445EC45C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009-7ADD-4BBD-9B49-1A61639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FD36-D03C-44CD-8D2A-287BB341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BD89-C482-4D2A-BBFE-3B119FF2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A534-266F-4577-8656-3FB59B67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BD5B-60C5-4A71-9097-B75AD1CB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C5F3-F625-45A7-8841-1706B8DF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4B3F0-C783-42B4-B6BA-0F0F7EC66E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990418-61FB-43F7-B049-6F5E82B785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4C3C74-0924-4008-B216-3823F81C8D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1F51A-F6B2-42D2-AD3B-BA4C118716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0703E1-1D79-4E34-810B-AFE630A561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0E6-63C6-45DE-8013-CC841895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CB6A8-FFED-4271-BBEB-3E23672BC8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7C693-0786-4B63-86A3-2E82C114D7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749C7-BD34-40F4-9D60-774A96D1AE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29A49-A76B-472C-9FC8-69BA76AB81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DCBC7-0C0E-463E-9DE8-1273B4E6BA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FB804-3FAC-48C5-A46C-8336EE451F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2375F-0952-4BC7-9656-0541BDFE9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688-0D23-43DE-A1DF-62462D41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F37-D40F-4292-BB30-D3DD48E5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1BB-62CB-4B9B-AEE9-CD5A1F31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065-B63D-46D2-BA99-3BFB353F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8AE-ECF7-4F56-98D9-ADC7104F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338-3509-40FC-9A31-00F1DCF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A170-2083-4945-B7C9-DD4DCDC08A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1B5C-6A73-46A2-98CD-2108405E69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7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D2BE-DDA9-4557-BBD2-7F84881AB07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ild 12" descr="P0303261.JPG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Gruppierung 5" descr=""/>
          <p:cNvPicPr/>
          <p:nvPr/>
        </p:nvPicPr>
        <p:blipFill>
          <a:blip r:embed="rId2"/>
          <a:stretch/>
        </p:blipFill>
        <p:spPr>
          <a:xfrm>
            <a:off x="-1432080" y="3597120"/>
            <a:ext cx="1187460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5181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Ontologien und Beschreibungslo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 11" descr="deusonto_masked.png"/>
          <p:cNvPicPr/>
          <p:nvPr/>
        </p:nvPicPr>
        <p:blipFill>
          <a:blip r:embed="rId3"/>
          <a:stretch/>
        </p:blipFill>
        <p:spPr>
          <a:xfrm>
            <a:off x="2000160" y="96840"/>
            <a:ext cx="552312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Bild 9" descr="AIFB.eps"/>
          <p:cNvPicPr/>
          <p:nvPr/>
        </p:nvPicPr>
        <p:blipFill>
          <a:blip r:embed="rId4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KITlogo_4c_frutiger"/>
          <p:cNvPicPr/>
          <p:nvPr/>
        </p:nvPicPr>
        <p:blipFill>
          <a:blip r:embed="rId5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F25B-1E8B-41A6-8EEF-3950801F94B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archie von 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3c"/>
          <p:cNvPicPr/>
          <p:nvPr/>
        </p:nvPicPr>
        <p:blipFill>
          <a:blip r:embed="rId1"/>
          <a:stretch/>
        </p:blipFill>
        <p:spPr>
          <a:xfrm>
            <a:off x="7238880" y="45720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web-stack"/>
          <p:cNvPicPr/>
          <p:nvPr/>
        </p:nvPicPr>
        <p:blipFill>
          <a:blip r:embed="rId2"/>
          <a:stretch/>
        </p:blipFill>
        <p:spPr>
          <a:xfrm>
            <a:off x="1295280" y="1673280"/>
            <a:ext cx="730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5A78-1CCF-4C71-9955-12B6FEC146E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schreibungslogiken (DL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53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slogiken sind Formalismen zur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ba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kbasierte Seman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sche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drucksstark für komplex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ank genug für An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Ontologiesprache OWL (Web Ontology Language, W3C Standard 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ntechnologie für das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Semantisches Wissensmanagement in Unt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DCD8-9EE5-49A7-8833-3774A9486F5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führung in D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(Description Logics, kurz DLs) sind ein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milie von Formalism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ür explizite und implizi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räsenta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rukturiert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s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einheitli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icher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.a. die traditionellen framebasierten, netzwerkartigen und objektorientierten Modellierungsspra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t formaler Semantik 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4F1A-C40B-4900-9E02-A5065C55FFA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Fokus und Zielsetz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e ausdrucksmächt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Logik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sto schwier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rd das automatische Schließ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exität ste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che Probleme sind sogar un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sundes Gleichgew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finden, d.h. eine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drucksmächti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ogik, die für wichtige Problem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scheidbare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ffizient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ches Schließen anbie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149D-6832-4458-A59B-8BEB4E4202E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Syntax und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sind eine Familie von Logi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ni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schreibungslogik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le verschiedene Beschreibungslogik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DL werden mittels sog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s einfachen Beschreibungen komplexere Beschreibungen geba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dene 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cheiden sich in der Menge der Konstruktoren (Ausdrucksmächtigkeit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die sie an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1E40-E5D1-4CBB-8384-632795E7256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 ermöglichen d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lexeren Konzepten a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eniger komplexeren bzw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omaren Konzep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che Arten von Konstruktoren es gibt, hängt von der konkreten DL a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meisten DLs bieten je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Dis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Nega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enzquantor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und Allquantor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7669080" y="2781360"/>
            <a:ext cx="648000" cy="2160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869080" y="2060640"/>
            <a:ext cx="1079280" cy="3744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llgemeine DL Architek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44360" y="1701720"/>
            <a:ext cx="5075280" cy="4392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95280" y="1844640"/>
            <a:ext cx="36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16080" y="242100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6080" y="429408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9640" y="249408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box (sch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39640" y="436572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ox (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09600" y="299736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Hu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ppy-Father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has-child.Female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09600" y="487044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ppy-Father(Joh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s-child(John, Ma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 rot="16200000">
            <a:off x="4766040" y="36666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fer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 rot="16200000">
            <a:off x="7033680" y="35593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521964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694836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831708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82600"/>
            <a:ext cx="725796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Einfaches Beispi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erminologisches Wiss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die Struktur der zu modellierenden Dom</a:t>
            </a:r>
            <a:r>
              <a:rPr b="0" i="1" lang="de-DE" sz="2000" spc="-1" strike="noStrike">
                <a:solidFill>
                  <a:srgbClr val="008000"/>
                </a:solidFill>
                <a:latin typeface="Arial"/>
              </a:rPr>
              <a:t>äne beschreiben </a:t>
            </a: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(konzeptionelles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Wissen um Individu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A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konkrete Situationen (Daten) beschr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7AAE-895A-4855-AE6A-123563A904A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Atomare Typ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name / Klass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, Mitarbeiter, Professor, Vorlesung, Studie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einer Klasse in UML und einem Entitätstyp in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weistellige P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dika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binden zwei Klassen oder Individu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u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Mitarbeit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tre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Profess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ä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Assoziation in UML und Beziehungstyp in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9496-6A9D-4F5A-BB6A-D4255A54899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zept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Student(Peter), Vorlesung(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Objekten in UML und Entität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lle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sucht(Peter, 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Assoziationen in UML und Beziehung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endliche Menge von solchen Axiomen (Konzept Assertion und Rolle Asser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n ABox Axiomen benutzten Konzep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önnen aber müssen ni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TBox definiert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EB4B-7BB0-4E49-B2B9-99E8AF62FC8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- Einfü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philosophische Disziplin, Zweig der Philosophie welcher sich mit der Natur und der Organisation von Wirklichkeit beschäft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hre des Seins (Aristoteles, Metaphysik, I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t folgende Fragen zu be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ist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sind alle gemeinsamen Eigenschaften des Se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E20D-F1AB-4FD9-896E-3A5F5177DA4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fachs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chreibungs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ar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- (oder Klassen-) name A, B, ... und folgende zwei spezielle 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?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ttom 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p oder universelles Konzep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namen R, 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on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is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xistenz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ll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52DF-C5F0-4E23-A434-41C29B08DB7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auf zwei Arten miteinander in Beziehung gesetz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ist gleichbedeutend damit, da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ssagen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 ge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CC91-01ED-4AF6-B900-934D706B99C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on von C bedeutet intuitiv “alles ausser 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junktion von C und D bedeutet intuitiv “sowohl C als auch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uchscre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on von C und D bedeutet intuitiv “C oder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Angestellt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E0A-1328-4882-B05C-4046106DCDA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Existenzquantor) bedeutet intuitiv „alle x, die eine Beziehung vom Typ R mit einem y vom Typ C hab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Allquantor) bedeutet intuitiv „alle x, für die alle Beziehungen vom Typ R mit einem y vom Typ C si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Elternteil.Me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ein Individuum gar keine Beziehung vom Typ R, erfüllt es immer die Bedingung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3043-B9B1-490E-80A9-36D4142D0AC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für zusammengesetzte Klassen verwende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emale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Orph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Parent.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isches Wissen (so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besteht aus einer Menge solcher Klassenbeziehungen (so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xio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terpretationen für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55000" cy="4230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4"/>
          <p:cNvSpPr/>
          <p:nvPr/>
        </p:nvSpPr>
        <p:spPr>
          <a:xfrm>
            <a:off x="468360" y="5805360"/>
            <a:ext cx="2066760" cy="393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34EC-09CF-4AB6-B0BA-8AE4B3F96D8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 gdw.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6192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611360" y="432756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887040" y="295596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0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1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2"/>
          <p:cNvSpPr/>
          <p:nvPr/>
        </p:nvSpPr>
        <p:spPr>
          <a:xfrm>
            <a:off x="3124080" y="4775040"/>
            <a:ext cx="396252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31A1-B340-4243-BE07-59233E4AB84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(a, b) gdw. (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6588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659600" y="43275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1039320" y="2666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806720" y="2924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1641600" y="54705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Eheg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633320" y="47084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1600560" y="5105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4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3124080" y="4711680"/>
            <a:ext cx="3657600" cy="6224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7"/>
          <p:cNvSpPr/>
          <p:nvPr/>
        </p:nvSpPr>
        <p:spPr>
          <a:xfrm>
            <a:off x="7391520" y="403848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81120" y="59277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Ehegatte(Peter, 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124080" y="4267080"/>
            <a:ext cx="35816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0"/>
          <p:cNvSpPr/>
          <p:nvPr/>
        </p:nvSpPr>
        <p:spPr>
          <a:xfrm flipV="1">
            <a:off x="3124080" y="4343400"/>
            <a:ext cx="44197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4724280" y="4343400"/>
            <a:ext cx="198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F008-AF76-4E02-B4F9-6B35E8A6908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eichheit: A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klusion: 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TBox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gd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jedes Axiom in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6842160" y="1798560"/>
            <a:ext cx="2057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7667640" y="3860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8028000" y="2349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8388360" y="270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7093080" y="2565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96360" y="3284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8290080" y="3322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8028000" y="2781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702680" y="3500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552080" y="134136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6319440" y="1268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7"/>
          <p:cNvSpPr/>
          <p:nvPr/>
        </p:nvSpPr>
        <p:spPr>
          <a:xfrm>
            <a:off x="7070760" y="1989000"/>
            <a:ext cx="1822320" cy="244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8"/>
          <p:cNvSpPr/>
          <p:nvPr/>
        </p:nvSpPr>
        <p:spPr>
          <a:xfrm>
            <a:off x="7308720" y="2997360"/>
            <a:ext cx="1335240" cy="1188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0"/>
          <p:cNvSpPr/>
          <p:nvPr/>
        </p:nvSpPr>
        <p:spPr>
          <a:xfrm>
            <a:off x="6372360" y="3246480"/>
            <a:ext cx="1008000" cy="469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1"/>
          <p:cNvSpPr/>
          <p:nvPr/>
        </p:nvSpPr>
        <p:spPr>
          <a:xfrm>
            <a:off x="6012000" y="1628640"/>
            <a:ext cx="1800000" cy="57636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319440" y="2997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750560" y="18302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3F79-DCE7-49F0-8A89-494605A37A9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Neg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639080" y="3946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711800" y="4341960"/>
            <a:ext cx="17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ann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0"/>
          <p:cNvSpPr/>
          <p:nvPr/>
        </p:nvSpPr>
        <p:spPr>
          <a:xfrm>
            <a:off x="3429000" y="4419720"/>
            <a:ext cx="3124080" cy="609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C5B7-7BD8-48A1-80C7-1E53AC18936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in der Informa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n explicit specification of a conceptualization. [Gruber, 9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 shared understanding of some domain of interest. [Uschold, Gruninger,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viele weitere Definitionen, in unserem Sinne ist – zunächst informell betrachtet - alles eine Ontologi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Konzeptualisierung eines Weltausschnitts darstel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formale Spezifikation besit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ens einer Gruppe von Person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B5FB-A876-48F9-B41B-363F9D43CFD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Kon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6121440" y="304812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03584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718812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734076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8"/>
          <p:cNvSpPr/>
          <p:nvPr/>
        </p:nvSpPr>
        <p:spPr>
          <a:xfrm>
            <a:off x="657864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673092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756936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741672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612440" y="36529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Ein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609200" y="402264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560240" y="434340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uch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1633320" y="27432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6831360" y="259092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2600" y="2700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7"/>
          <p:cNvSpPr/>
          <p:nvPr/>
        </p:nvSpPr>
        <p:spPr>
          <a:xfrm>
            <a:off x="6299280" y="3213000"/>
            <a:ext cx="1816200" cy="2247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6743880" y="3594240"/>
            <a:ext cx="1231560" cy="2260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7264440" y="3860640"/>
            <a:ext cx="52056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0"/>
          <p:cNvSpPr/>
          <p:nvPr/>
        </p:nvSpPr>
        <p:spPr>
          <a:xfrm>
            <a:off x="3352680" y="3403440"/>
            <a:ext cx="3124440" cy="482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3352680" y="3772080"/>
            <a:ext cx="3657600" cy="723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4"/>
          <p:cNvSpPr/>
          <p:nvPr/>
        </p:nvSpPr>
        <p:spPr>
          <a:xfrm>
            <a:off x="3276720" y="4165560"/>
            <a:ext cx="4267080" cy="55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9A82-2D9A-4208-BF29-0434C45D12F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Dis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7467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573560" y="35766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623600" y="3946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647000" y="43275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Angestel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6350040" y="3048120"/>
            <a:ext cx="1638360" cy="1460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30"/>
          <p:cNvSpPr/>
          <p:nvPr/>
        </p:nvSpPr>
        <p:spPr>
          <a:xfrm>
            <a:off x="6299280" y="4470480"/>
            <a:ext cx="1727280" cy="635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6210360" y="2971800"/>
            <a:ext cx="1955880" cy="23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2971800" y="3441600"/>
            <a:ext cx="3505320" cy="749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2971800" y="3860640"/>
            <a:ext cx="3429000" cy="939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35"/>
          <p:cNvSpPr/>
          <p:nvPr/>
        </p:nvSpPr>
        <p:spPr>
          <a:xfrm>
            <a:off x="3581280" y="4495680"/>
            <a:ext cx="274320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BD10-A21D-4851-9908-9C1338F4AE6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Existenz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6934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1633320" y="3576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1635480" y="3946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s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126468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1614960" y="43275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5"/>
          <p:cNvSpPr/>
          <p:nvPr/>
        </p:nvSpPr>
        <p:spPr>
          <a:xfrm>
            <a:off x="6261120" y="2959200"/>
            <a:ext cx="1523880" cy="14731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6"/>
          <p:cNvSpPr/>
          <p:nvPr/>
        </p:nvSpPr>
        <p:spPr>
          <a:xfrm>
            <a:off x="6438960" y="4356000"/>
            <a:ext cx="1676520" cy="1346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7"/>
          <p:cNvSpPr/>
          <p:nvPr/>
        </p:nvSpPr>
        <p:spPr>
          <a:xfrm>
            <a:off x="2895480" y="3111480"/>
            <a:ext cx="3886200" cy="698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7009920" y="3505320"/>
            <a:ext cx="228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1"/>
          <p:cNvSpPr/>
          <p:nvPr/>
        </p:nvSpPr>
        <p:spPr>
          <a:xfrm>
            <a:off x="2971800" y="4432320"/>
            <a:ext cx="3581280" cy="52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1567440" y="472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5"/>
          <p:cNvSpPr/>
          <p:nvPr/>
        </p:nvSpPr>
        <p:spPr>
          <a:xfrm>
            <a:off x="6413400" y="3187800"/>
            <a:ext cx="1117800" cy="10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6"/>
          <p:cNvSpPr/>
          <p:nvPr/>
        </p:nvSpPr>
        <p:spPr>
          <a:xfrm>
            <a:off x="4114800" y="3530520"/>
            <a:ext cx="2514600" cy="142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743200" y="4191120"/>
            <a:ext cx="3962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743200" y="4191120"/>
            <a:ext cx="43434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24BC-AED6-4E17-AF21-6D59257A978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All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7596360" y="3573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66294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634760" y="4267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1643760" y="3962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41696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1511280" y="50133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Bein.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30"/>
          <p:cNvSpPr/>
          <p:nvPr/>
        </p:nvSpPr>
        <p:spPr>
          <a:xfrm flipH="1" flipV="1">
            <a:off x="7019640" y="3573000"/>
            <a:ext cx="6094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1"/>
          <p:cNvSpPr/>
          <p:nvPr/>
        </p:nvSpPr>
        <p:spPr>
          <a:xfrm>
            <a:off x="6858000" y="4876920"/>
            <a:ext cx="30492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2"/>
          <p:cNvSpPr/>
          <p:nvPr/>
        </p:nvSpPr>
        <p:spPr>
          <a:xfrm>
            <a:off x="6858000" y="480060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33"/>
          <p:cNvSpPr/>
          <p:nvPr/>
        </p:nvSpPr>
        <p:spPr>
          <a:xfrm>
            <a:off x="6948360" y="3573360"/>
            <a:ext cx="747720" cy="99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756480" y="3683160"/>
            <a:ext cx="1257120" cy="2146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1614240" y="463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6300720" y="3068640"/>
            <a:ext cx="901800" cy="2171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38"/>
          <p:cNvSpPr/>
          <p:nvPr/>
        </p:nvSpPr>
        <p:spPr>
          <a:xfrm>
            <a:off x="2438280" y="3403440"/>
            <a:ext cx="4038840" cy="787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40"/>
          <p:cNvSpPr/>
          <p:nvPr/>
        </p:nvSpPr>
        <p:spPr>
          <a:xfrm>
            <a:off x="6629400" y="4546440"/>
            <a:ext cx="38088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1"/>
          <p:cNvSpPr/>
          <p:nvPr/>
        </p:nvSpPr>
        <p:spPr>
          <a:xfrm>
            <a:off x="3924360" y="4648320"/>
            <a:ext cx="270504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2"/>
          <p:cNvSpPr/>
          <p:nvPr/>
        </p:nvSpPr>
        <p:spPr>
          <a:xfrm flipV="1">
            <a:off x="2700360" y="3644640"/>
            <a:ext cx="4608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3"/>
          <p:cNvSpPr/>
          <p:nvPr/>
        </p:nvSpPr>
        <p:spPr>
          <a:xfrm flipV="1">
            <a:off x="2666880" y="4292640"/>
            <a:ext cx="4784760" cy="20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4"/>
          <p:cNvSpPr/>
          <p:nvPr/>
        </p:nvSpPr>
        <p:spPr>
          <a:xfrm>
            <a:off x="2666880" y="4495680"/>
            <a:ext cx="46483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5"/>
          <p:cNvSpPr/>
          <p:nvPr/>
        </p:nvSpPr>
        <p:spPr>
          <a:xfrm>
            <a:off x="2743200" y="4495680"/>
            <a:ext cx="43434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47"/>
          <p:cNvSpPr/>
          <p:nvPr/>
        </p:nvSpPr>
        <p:spPr>
          <a:xfrm>
            <a:off x="2819520" y="4876920"/>
            <a:ext cx="3962160" cy="546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A142-5B47-4277-B45E-2D3BEA23243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Zeit sind verschiedene DL Konstruktoren eingeführt worden, um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erweiter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ahlenrestriktion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hatKind bedeutet alle Individuen, die mindestens drei Kind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Mutter bedeutet alle Individuen, die höchstens eine Mutter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0177-2E08-42F7-A192-96C7927E0C8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lifizierte Zahlenrestriktionen: wie Zahlenrestriktion nur mit dem Unterschied, dass der Wertebereich festgeleg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 bz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 bzw.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hatKind.Frau bedeutet alle Individuen, die mindestens 2 weibliche Kinder (Töchter)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Elterteil.Mann bedeutet alle Individuen, die höchstens einen männlichen Elternteil (Vater) ha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6232-822E-4C13-9088-0A76CB09227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rollen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ate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Kind bedeutet, dass wann immer a Vater von b ist, a auch b als Kind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äquival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orfah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Nachfahren bedeutet, dass a Vorfahr von b genau dann ist, wenn a b als Nachfahre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069E-A547-4A96-A02A-5FAFFD78DD9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ers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hatKin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tElternteil bedeutet, dass hatElternteil eine inverse Rolle von hatKind ist. D.h. wenn a Kind von b ist, ist b Elternteil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itiv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: Trans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(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Trans(hatNachkommen) bedeutet, dass die Nachkommen von Nachkommen auch Nachkommen sind. D.h. wenn b Nachkommen von a ist und c Nachkommen von b, dann ist c Nachkommen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707E-1D82-4640-AD60-1DB0D3EB096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808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minal: Damit kann man vorgeben welche Individuen Instanz von einem Konzept sein dür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mantik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EU-Mitglied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Deutschland, Italien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krete Rollen: Rollen, die als zweite Argumente Datentypen wie z.B. Zahlen oder Strings ha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hasAge(Markus,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bei ist die Semantik der Datentypen festgelegt, d.h.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t die Zahl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724280" y="990720"/>
            <a:ext cx="3745080" cy="6311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7528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rweiterungen von </a:t>
            </a:r>
            <a:r>
              <a:rPr b="0" lang="de-DE" sz="32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1422360"/>
          <a:ext cx="3097080" cy="3308400"/>
        </p:xfrm>
        <a:graphic>
          <a:graphicData uri="http://schemas.openxmlformats.org/drawingml/2006/table">
            <a:tbl>
              <a:tblPr/>
              <a:tblGrid>
                <a:gridCol w="985680"/>
                <a:gridCol w="21114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…,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36"/>
          <p:cNvSpPr/>
          <p:nvPr/>
        </p:nvSpPr>
        <p:spPr>
          <a:xfrm>
            <a:off x="1447920" y="990720"/>
            <a:ext cx="30970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1523880" y="4876920"/>
            <a:ext cx="302436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3880" y="5308560"/>
          <a:ext cx="3024360" cy="746280"/>
        </p:xfrm>
        <a:graphic>
          <a:graphicData uri="http://schemas.openxmlformats.org/drawingml/2006/table">
            <a:tbl>
              <a:tblPr/>
              <a:tblGrid>
                <a:gridCol w="1727280"/>
                <a:gridCol w="1297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Text Box 49"/>
          <p:cNvSpPr/>
          <p:nvPr/>
        </p:nvSpPr>
        <p:spPr>
          <a:xfrm rot="10800000">
            <a:off x="1158480" y="1422360"/>
            <a:ext cx="2746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0"/>
          <p:cNvSpPr/>
          <p:nvPr/>
        </p:nvSpPr>
        <p:spPr>
          <a:xfrm rot="10800000">
            <a:off x="1158480" y="3583080"/>
            <a:ext cx="2746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1"/>
          <p:cNvSpPr/>
          <p:nvPr/>
        </p:nvSpPr>
        <p:spPr>
          <a:xfrm rot="10800000">
            <a:off x="1239480" y="5308560"/>
            <a:ext cx="2746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2"/>
          <p:cNvSpPr/>
          <p:nvPr/>
        </p:nvSpPr>
        <p:spPr>
          <a:xfrm>
            <a:off x="5273640" y="127008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 Axioms (T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273640" y="1701720"/>
          <a:ext cx="2951280" cy="74628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64"/>
          <p:cNvSpPr/>
          <p:nvPr/>
        </p:nvSpPr>
        <p:spPr>
          <a:xfrm>
            <a:off x="5273640" y="263844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 Axioms (R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5"/>
          <p:cNvSpPr/>
          <p:nvPr/>
        </p:nvSpPr>
        <p:spPr>
          <a:xfrm>
            <a:off x="5275440" y="3914640"/>
            <a:ext cx="2950920" cy="43200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rtional Axioms (A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275440" y="4311720"/>
          <a:ext cx="2950920" cy="1566720"/>
        </p:xfrm>
        <a:graphic>
          <a:graphicData uri="http://schemas.openxmlformats.org/drawingml/2006/table">
            <a:tbl>
              <a:tblPr/>
              <a:tblGrid>
                <a:gridCol w="1655640"/>
                <a:gridCol w="12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(a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1" name="Text Box 83"/>
          <p:cNvSpPr/>
          <p:nvPr/>
        </p:nvSpPr>
        <p:spPr>
          <a:xfrm rot="10800000">
            <a:off x="4986000" y="306828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84"/>
          <p:cNvSpPr/>
          <p:nvPr/>
        </p:nvSpPr>
        <p:spPr>
          <a:xfrm rot="10800000">
            <a:off x="1158480" y="4374720"/>
            <a:ext cx="2746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5"/>
          <p:cNvSpPr/>
          <p:nvPr/>
        </p:nvSpPr>
        <p:spPr>
          <a:xfrm rot="10800000">
            <a:off x="4986000" y="342864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273640" y="3070080"/>
          <a:ext cx="2951280" cy="76212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5" name="Text Box 97"/>
          <p:cNvSpPr/>
          <p:nvPr/>
        </p:nvSpPr>
        <p:spPr>
          <a:xfrm>
            <a:off x="152280" y="6251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Transitivity     OWL DL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HO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: Datenty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8F17-C6FF-4A47-98C3-E4A9CFB50EB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Gemeinsame Spra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People can´t share knowledge if they don´t speak a common language„ [T. Davenpor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Gemeinsame Sprache" notwendig für funktionierende Kommunikation zwischen Personen bzw. Masch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ldefiniertes Vokabular an Symbolen (Lexemen, lexical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Verständnis, welche Begriffe (concepts) und Beziehungen (relations) durch die Symbole referenz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B5F6-95A9-4B50-894E-1957365CE1C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modellierung (Bsp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920" y="33577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ws are veget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getarians eat neither animal parts nor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mad cow is one that has been eating sheep br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eep ar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ita is a mad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ussfolgerung: Wissensbasis ist inkonsist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042920" y="1341360"/>
            <a:ext cx="7848720" cy="1922760"/>
          </a:xfrm>
          <a:prstGeom prst="rect">
            <a:avLst/>
          </a:prstGeom>
          <a:solidFill>
            <a:srgbClr val="e9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egetarian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animal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an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Times New Roman"/>
              </a:rPr>
              <a:t>madcow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ben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EBC4-34EC-44EC-AD3C-4C05B71886A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FOL = Prädikatenlogik 1. Stu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benso andere DLs) ist ein Fragment vo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Wissensbasis kann semantikerhaltend nach FOL üb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rumentarium der Logik (aus Mathematik, Philosophie, Informatik, Künstlicher Intelligenz) kann verwendet werden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über 2000 Jahre Entwicklung seit Aristot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0C2F-4A25-4937-8827-E6608F490BB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formungen nach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1" lang="en-US" sz="2800" spc="-1" strike="noStrike">
                <a:solidFill>
                  <a:srgbClr val="ff0066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6A56-C821-445D-9C57-B532DF89E63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formung nach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457200" y="13716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d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vegetarian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mad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)(eats(x,y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)( partof(y,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sheep(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in(z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chtige Inferenzprobl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obale Konsistenz der Wissensbas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Wissensbasis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Klasse C leer s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ierung der Wissens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eigentlich diesel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=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disj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Individuum a in der Klasse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„alle X mit C(X) find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e alle (bekannten!) Individuen zur Klas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ückführung auf Unerfüllbarke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5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C(a)} uner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)(a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)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C(X)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e Klassenzugehörigkeit für alle Individ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werden das Tableauverfahren be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Tableauverfahren versucht, auf "abstrakte" Weise ein Modell zu konstru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sslingt das, dann ist die Wissensbasis un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ingt es, ist sie 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Rückführung der Inferenzprobleme auf das Zeigen der Unerfüllbarkeit der Wissensba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 eine Wissensbasis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de die Regeln auf der folgenden Folie an, bis es nicht mehr ge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ierende Wissensbasis: NNF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egationsnormalfor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on steht nur noch direkt vor atomaren 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 und NNF(W) sind logisch äquiva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aives 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auf Unerfüll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Wissensbasis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 der Erzeugung eines Baumes (genann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, der ein Modell von W repräsentiert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igentlich 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l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ägt der Versuch fehl, ist W unerfül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C769-0897-4B13-B9C5-A35D513409B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finition von Ontologi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allgemeine Zusammenhang wird von dem Bedeutungsdreieck beschrieben, welches die Interaktion zwis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mbolen, Begrif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stän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Welt defin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4880" y="15238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484360" y="3284640"/>
            <a:ext cx="4838400" cy="2389680"/>
            <a:chOff x="2484360" y="3284640"/>
            <a:chExt cx="4838400" cy="2389680"/>
          </a:xfrm>
        </p:grpSpPr>
        <p:sp>
          <p:nvSpPr>
            <p:cNvPr id="163" name="Rectangle 5"/>
            <p:cNvSpPr/>
            <p:nvPr/>
          </p:nvSpPr>
          <p:spPr>
            <a:xfrm>
              <a:off x="5837040" y="5100120"/>
              <a:ext cx="1485720" cy="44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663280" y="51735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920920" y="51562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egen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2484360" y="5100120"/>
              <a:ext cx="1219320" cy="53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3779640" y="5366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3187800" y="4300200"/>
              <a:ext cx="74412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 flipV="1">
              <a:off x="5456160" y="4300200"/>
              <a:ext cx="77328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262040" y="536724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eht fü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569560" y="4567320"/>
              <a:ext cx="10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referenz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222360" y="4466880"/>
              <a:ext cx="779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ktiv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728880" y="3284640"/>
              <a:ext cx="1803240" cy="1104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4163760" y="3550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egri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s Tablea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1214280"/>
            <a:ext cx="8496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ableau ist ein gerichteter beschrifteter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noten repräsentieren Elemente der Domän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s Mod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noten x ist mit einer Menge L(x) von Klassenausdrücken beschrift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steht für: "x ist in der Extension von 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nten stehen für Roll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Kante &lt;x,y&gt; ist mit einer Menge von Rollennamen L(&lt;x,y&gt;) beschrif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&lt;x,y&gt;) steht für: "(x,y) ist in der Extension von 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put: K=TBox + ABox (in N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noten für jedes Individuum in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Knoten beschriftet mit den entsprechenden Klassennamen aus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it R beschriftete Kante zwischen a und b falls R(a,b) in der ABox ste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gationsnormalform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ion des Tablea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enthält)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o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935640" y="3156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53920" y="5924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52680" y="3557520"/>
            <a:ext cx="5400720" cy="1722600"/>
          </a:xfrm>
          <a:prstGeom prst="borderCallout1">
            <a:avLst>
              <a:gd name="adj1" fmla="val 18750"/>
              <a:gd name="adj2" fmla="val -8333"/>
              <a:gd name="adj3" fmla="val -4425"/>
              <a:gd name="adj4" fmla="val -151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phan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3281400" y="5424480"/>
            <a:ext cx="3743280" cy="711360"/>
          </a:xfrm>
          <a:prstGeom prst="borderCallout1">
            <a:avLst>
              <a:gd name="adj1" fmla="val 18750"/>
              <a:gd name="adj2" fmla="val -8333"/>
              <a:gd name="adj3" fmla="val 110712"/>
              <a:gd name="adj4" fmla="val -22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128680" y="362412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57640" y="459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06000" y="0"/>
            <a:ext cx="3409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.h. füge hinzu: 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suche Widerspr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roblem mit der Termin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t offensichtlich erfüllbar: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 M enthält Individuen 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..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R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für alle i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 Tableauverfahren terminiert nic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ösung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 passiert ja nichts ne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 x muss nicht expandiert werden, da es eigentlich nur eine Kopie von a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ebloc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uch y)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 ein Vorgänger von x ist und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ein Vorgänger von x geblock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in diesem Beispiel durch a gebloc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04040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133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365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495440" y="31924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3656160" y="31924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472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2863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5095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5888160" y="31924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962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428688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659016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C850-6CF1-46AE-A5B2-F2B5D127AD1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e und Gegenstän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319120" y="2635200"/>
            <a:ext cx="3200400" cy="2057040"/>
            <a:chOff x="2319120" y="2635200"/>
            <a:chExt cx="3200400" cy="2057040"/>
          </a:xfrm>
        </p:grpSpPr>
        <p:sp>
          <p:nvSpPr>
            <p:cNvPr id="178" name="Line 4"/>
            <p:cNvSpPr/>
            <p:nvPr/>
          </p:nvSpPr>
          <p:spPr>
            <a:xfrm flipH="1">
              <a:off x="2319120" y="2635200"/>
              <a:ext cx="154836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2319480" y="4692240"/>
              <a:ext cx="32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3867840" y="2635200"/>
              <a:ext cx="165168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AutoShape 7"/>
          <p:cNvSpPr/>
          <p:nvPr/>
        </p:nvSpPr>
        <p:spPr>
          <a:xfrm>
            <a:off x="1981080" y="1523880"/>
            <a:ext cx="4191120" cy="914400"/>
          </a:xfrm>
          <a:prstGeom prst="cloudCallout">
            <a:avLst>
              <a:gd name="adj1" fmla="val -33407"/>
              <a:gd name="adj2" fmla="val 845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056240" y="4769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926240" y="50288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471320" y="5257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96760" y="12189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2" descr="jaguarc"/>
          <p:cNvPicPr/>
          <p:nvPr/>
        </p:nvPicPr>
        <p:blipFill>
          <a:blip r:embed="rId1"/>
          <a:stretch/>
        </p:blipFill>
        <p:spPr>
          <a:xfrm>
            <a:off x="6324480" y="4495680"/>
            <a:ext cx="1600200" cy="90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aguara"/>
          <p:cNvPicPr/>
          <p:nvPr/>
        </p:nvPicPr>
        <p:blipFill>
          <a:blip r:embed="rId2"/>
          <a:stretch/>
        </p:blipFill>
        <p:spPr>
          <a:xfrm>
            <a:off x="6400800" y="32004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AGUARav"/>
          <p:cNvPicPr/>
          <p:nvPr/>
        </p:nvPicPr>
        <p:blipFill>
          <a:blip r:embed="rId3"/>
          <a:stretch/>
        </p:blipFill>
        <p:spPr>
          <a:xfrm>
            <a:off x="6629400" y="5486400"/>
            <a:ext cx="1143000" cy="102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3896640" y="1675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1828800" y="2743200"/>
            <a:ext cx="144792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4800600" y="2438280"/>
            <a:ext cx="1905120" cy="762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4724280" y="2590920"/>
            <a:ext cx="182880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2666880"/>
            <a:ext cx="2133720" cy="327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339440" y="1659600"/>
            <a:ext cx="94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2660760" y="1659600"/>
            <a:ext cx="90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533400" y="196416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Flugze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, aber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wende eine Regel nur a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 enthält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oder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Regeln nur anwende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x-Beweis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cs.man.ac.uk/~horrocks/FaC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owl.man.ac.uk/factpluspl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ndswap.org/2003/pelle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N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cer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sts.tu-harburg.de/~r.f.moeller/rac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cal Hitzler, Markus Krötzsch, Sebastian Rudolph, York Sure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mantic Web – Grundlagen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8. (ISBN 978354033993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ffen Staab, Rudi Studer (Editors)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ndbook on Ontologies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3 (ISBN 35404083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nz Baader, Diego Calvanese, Deborah McGuinness, Daniele Nardi, Peter Patel-Schneider (eds.)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Description Logic Handbook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ambridge University Press, 2007. (ISBN 97805217817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9B17-B7F4-4CFE-B472-2D8F60E048A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für Kommunik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 Ontologie reduziert die Anzahl von Abbildungen von Symbolen auf Gegenstände der realen Welt, im Idealfall ist die Abbildung eindeu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114640" y="4730760"/>
            <a:ext cx="1209600" cy="82404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621240" y="4148280"/>
            <a:ext cx="2047680" cy="1019160"/>
            <a:chOff x="3621240" y="4148280"/>
            <a:chExt cx="2047680" cy="1019160"/>
          </a:xfrm>
        </p:grpSpPr>
        <p:sp>
          <p:nvSpPr>
            <p:cNvPr id="202" name="Line 6"/>
            <p:cNvSpPr/>
            <p:nvPr/>
          </p:nvSpPr>
          <p:spPr>
            <a:xfrm flipH="1">
              <a:off x="3621240" y="4148280"/>
              <a:ext cx="99072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621240" y="5167440"/>
              <a:ext cx="20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4611960" y="4148280"/>
              <a:ext cx="105660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2199600" y="497808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69920" y="553032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 der realen 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458360" y="55303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 aus dem Vokab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33400" y="297144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 in der Ont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3" descr="jaguarc"/>
          <p:cNvPicPr/>
          <p:nvPr/>
        </p:nvPicPr>
        <p:blipFill>
          <a:blip r:embed="rId1"/>
          <a:stretch/>
        </p:blipFill>
        <p:spPr>
          <a:xfrm>
            <a:off x="5826240" y="4778280"/>
            <a:ext cx="1287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4111560" y="3225960"/>
            <a:ext cx="979560" cy="776160"/>
            <a:chOff x="4111560" y="3225960"/>
            <a:chExt cx="979560" cy="776160"/>
          </a:xfrm>
        </p:grpSpPr>
        <p:pic>
          <p:nvPicPr>
            <p:cNvPr id="211" name="Picture 15" descr="WIM_Logo_klein"/>
            <p:cNvPicPr/>
            <p:nvPr/>
          </p:nvPicPr>
          <p:blipFill>
            <a:blip r:embed="rId2"/>
            <a:stretch/>
          </p:blipFill>
          <p:spPr>
            <a:xfrm>
              <a:off x="4111560" y="3225960"/>
              <a:ext cx="979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6" descr="jaguarc"/>
            <p:cNvPicPr/>
            <p:nvPr/>
          </p:nvPicPr>
          <p:blipFill>
            <a:blip r:embed="rId3"/>
            <a:stretch/>
          </p:blipFill>
          <p:spPr>
            <a:xfrm>
              <a:off x="4295160" y="3420000"/>
              <a:ext cx="55080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Line 17"/>
          <p:cNvSpPr/>
          <p:nvPr/>
        </p:nvSpPr>
        <p:spPr>
          <a:xfrm flipV="1">
            <a:off x="3171960" y="3517920"/>
            <a:ext cx="1122120" cy="132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846680" y="3517920"/>
            <a:ext cx="1285920" cy="121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A02A-5682-4797-AD99-AB4DBFCE467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sprach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, mit denen man konzeptuell modellieren kan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nlogik erster 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-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DF(S) und OWL (W3C Recommend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 unterscheiden sich in ihrer Ausdrucksmächt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forderung: Formale Semantik und Ausfüh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sprachen sollten für das Semantic Web geeignet sein, siehe z.B. O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7E9F-6F71-4341-A7BC-8F11079AE91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WWW ist zur Nutzung durch den Menschen bestim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 basiert auf der Markupsprache HTML, die beschreib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rgestel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soll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miteinan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knüp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nicht, was dies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eu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Web ist das Web der nächste Generation, das zur Nutzung durch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n Menschen und Maschi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timm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erausforderung für die SW Sprache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deutung von Informationen (Web Seiten, Web Links) in maschinelesbarer Form darzu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6:28:51Z</dcterms:created>
  <dc:creator>ulla</dc:creator>
  <dc:description/>
  <dc:language>en-US</dc:language>
  <cp:lastModifiedBy>Sebastian Rudolph</cp:lastModifiedBy>
  <cp:lastPrinted>2000-10-25T10:09:24Z</cp:lastPrinted>
  <dcterms:modified xsi:type="dcterms:W3CDTF">2008-06-19T15:12:20Z</dcterms:modified>
  <cp:revision>289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